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4668-167D-495B-9D50-D1A25B8A2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047D-AEA9-424E-916B-49135DA0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63B4-2EB6-4AFF-B9DD-8916BBACC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C423-27B8-4DB6-99B1-0CFA4436B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EEE3-29E7-4F6C-AB80-1725D1211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8949-2E8F-4DDD-98C2-CFEF0915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F258-0A4B-4F10-94F5-1ED6AE47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A525-54A1-440B-BAB6-7BBEAEC6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B788-53DB-49C2-BD3C-F8F5F89A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A550-5A9A-4194-9B69-08548C26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1D4D-4B8E-40D3-9CB0-2347A203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C5E7-3C9D-4AF5-83A5-83B8C860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5704-8DD0-4004-AD4B-0005C045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9D43-320C-4FB5-A793-1A36102A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3CD2-4784-4923-BFA4-F9BA7E6E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F84D-492A-4A9E-8C59-998E6C990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2E01-0B04-40E6-BB67-1DEB4585B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7FCD-CF6B-4549-AAFF-7C328E00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8350-F4CC-4969-97BE-C19A48D2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A43B-DD94-4BFD-84F2-E422B85D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2873-E159-4C32-BA88-CEABD31A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54A4-55C0-4B1E-9EEC-91105814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97C3-2130-429E-BE0D-447B3248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E614-884E-4409-BF46-4B4E3A2E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36B1-0552-4E2F-AAA2-E86472EA4EB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4587-221D-4EBB-9100-54E7E752ECD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hapter 3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ciding What is New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rainstorming Sess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row out story ide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ssign the stor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ow board time to think and debat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meone needs to recor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 idea is ba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ok carefully over sugges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Using poll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e need a good samp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00 out of 750 is a good samp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ed a fair samp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ll grades – male and fema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ave a good sample siz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Ques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reating Survey Ques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ust have well-written ques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 loaded languag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is clever” v. “John is sly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lter Ques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You can filter someone out with ques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o you smoke?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sking the right ques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on’t confuse the person respond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on’t ask freshmen if they believe teachers should have tenure – WHY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ublishing Poll Resul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ust be done in a timely mann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on’t draw conclus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et the reader draw conclus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295280"/>
            <a:ext cx="7313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6666"/>
                </a:solidFill>
                <a:latin typeface="Arial"/>
              </a:rPr>
              <a:t>Ready to start generating story ideas?</a:t>
            </a:r>
            <a:endParaRPr b="0" lang="en-US" sz="8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ews Judgmen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You have to find what’s out the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mportant vs. not importa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ws judgment is something we develop over tim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do we here at O’Gorman decide what is newsworthy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ive for timeliness, proximity, promin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he “Who Cares” Metho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e need to ask who really cares about the sto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f no one cares, then why report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amine p. 61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ive for good tast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on’t just spread the ugly new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he Elements of New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ws judgment is intuiti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following are ways to assess what is and isn’t newsworth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he Elements of News (cont.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imelin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ow new is the news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t good to cover football in Januar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ed to focus on advance item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xim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arness of a given ev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tick with local new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he Elements of News (cont.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min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wsworthiness of an individual or organiz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art of why the press follows movie stars and celebrit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sequ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importance of the ev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ocalization – national meets loc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hat are some scenarios where this happens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he Elements of News (cont.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uman Interes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ther people and how they behav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augh, cry, feel emo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nusual stor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flic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ything that involves tension, surprise, and suspens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he Elements of News (cont.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ther facto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gress, money, disaster, novelty, oddity, emotions, drama, animals, childre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ook at the chart on p. 67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enerating News Stori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ust meet as an editorial boar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cess at O’Gorma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tudents meet in small group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arge group puts all stories togeth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tudents select final stor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tudents given stories to wri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17:54:30Z</dcterms:created>
  <dc:creator>jvanengen</dc:creator>
  <dc:description/>
  <dc:language>en-US</dc:language>
  <cp:lastModifiedBy>jvanengen</cp:lastModifiedBy>
  <dcterms:modified xsi:type="dcterms:W3CDTF">2009-07-23T18:07:44Z</dcterms:modified>
  <cp:revision>2</cp:revision>
  <dc:subject/>
  <dc:title>Chapter 3</dc:title>
</cp:coreProperties>
</file>